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B79A-FC8F-4962-A1B6-27E9993ED0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CEB9-041E-45DE-AD3F-7F48E795D3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08F5-447A-4197-B1B3-8704B83A1F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225F-8DC6-491B-9142-B51BDA13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EB1-EFB4-4084-A6C1-5210E18E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F44-EDCF-4FCB-A0B9-A191CF67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732A-7EA0-4DB6-A041-0313B86B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2973D-E52B-4340-B5CE-228BCF96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52B08-C45C-4C11-81DB-5AA3F069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455F9-83C8-46DF-BB5A-07936F6F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BF1AC-9D2C-43D9-8C96-6C857526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F8636-76D0-40E8-801F-78B22499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C377C-8B52-41C4-8EF3-00AB73DD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E984C-0B73-4766-B72B-FBD9675F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8D6-6E43-4749-8788-13EF17A4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12779-5EDC-4B05-AF1A-6BA52F31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AE242-213F-479C-8B32-749BECF4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AC26D-7496-411F-B71D-69702C4A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E8260-26DD-4550-A12B-450FE046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28621-6341-42DD-BDAB-8B89DB71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8BFB-4609-4BCB-8F72-84F060B6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2F46-6C56-4F4B-BC17-1D2E1692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FA85E-C0E4-4B76-92A9-86C06336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25047-9C2F-4467-9667-BF791E01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79933-9CF1-49E7-B9C7-DEDB2280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231-C92A-433F-9C3B-FBD7747F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FCC55-D766-4FE3-BF54-28D2CF80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696A-80C5-43E9-AB91-7A39105B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87217-1542-4208-BA66-1582EA3C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52A0D-BFA8-4D73-93DC-819FAD41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86F3D-3CCD-4216-82A2-4A37F64B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92E3-F59C-4E59-8578-A8637249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8517C-B05C-4673-96E5-3F56E60B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FAAF26-814A-4E30-8B07-EB5D7D09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30B39E-6C2E-4F2E-9546-B8DC46F0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4AD71B-2145-4884-8AEC-19F84F9D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519-0558-48D3-A003-BC3952B2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BCC982-8A18-4647-9FF1-C0B66053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2789A8-EA5E-4ADC-B427-F430662C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ADCB34-1EA5-4223-AD8F-3317EBF6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4F5239-891C-46AC-8AEB-6E5F6AE0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79886E-9C89-48DA-A2FB-5D1CC118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C391C6-BB93-4728-8279-3DCE9067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619972-20F8-4DA7-B2C6-D71B356D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8FA784-8827-4FEF-81D2-81C2D55F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6AB2E-F28B-43D4-A86D-2A43C583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6FE0C3-3215-41A9-B5CD-049755E0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B7E-E1CF-4500-9BC8-D629A4A0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37436-6F88-4153-883A-0981F361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DB4BEB-361F-43C9-ABD7-1E6FC946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CDC60-970C-413E-9878-1F2DAB83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A2B30-05A7-4F14-AE84-35F268DC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9DE11-10D2-4153-A8E6-9AD1763E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5E40C6-0AB1-4684-8879-C226E18D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D76DB5-50B1-4E88-A506-9D54D4D9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E2F06-3251-4CC3-9B3D-7D28F6F4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BCB55-1CD9-4A24-9398-762D262E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218576-FDC0-44D0-ACBE-FE852EC3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96E8-DB5A-403F-8CA9-C3BA1A95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C9561A-86A5-4401-B3E8-97884938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F2FA13-B887-4F0B-90C1-A9F1A43F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E112E-AAD0-45D2-B966-1C207060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D883C-8A06-48F6-B41D-0102ED69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A614E6-FF11-4C99-B83D-606CD8F5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41317-7231-43DB-AE2E-4502E255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27F816-F5D0-44D3-931B-DDB8B24C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71139-8116-4728-8621-5A80B143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F7E79E-81F5-455A-97AA-CBEDE074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38A8F4-5C6E-40AD-8100-BA2ADA62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5EA-977C-4451-9FFD-6E6676F4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BB757-617A-42D7-8C1B-4193F58C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7D91B-D299-47B3-A07F-FE47AACA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62E2B-293A-470E-BA18-5E790399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0F9-84FE-40ED-891E-0B0013C9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086-1E2E-41D6-96F4-451ABC9A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AF8F-6C67-4525-BFD4-88A2B3730C16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CE5D-3440-41B2-9DF0-8C5515B03E78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3267-4EB0-45DE-9222-6FF1377E87C6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42E1-F444-4F1E-A703-3D3FA9F5A019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7A90-5828-4093-B8EF-E5CA367B0531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073C-CE7E-4313-8A15-CE15D0F7BA2B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12-09/1348411610_012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1348411610_0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7"/>
          <p:cNvSpPr/>
          <p:nvPr/>
        </p:nvSpPr>
        <p:spPr>
          <a:xfrm>
            <a:off x="990720" y="1828800"/>
            <a:ext cx="7619760" cy="1015920"/>
          </a:xfrm>
          <a:prstGeom prst="rect">
            <a:avLst/>
          </a:prstGeom>
          <a:solidFill>
            <a:srgbClr val="cc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600440" y="4648320"/>
            <a:ext cx="4543560" cy="399960"/>
          </a:xfrm>
          <a:prstGeom prst="rect">
            <a:avLst/>
          </a:prstGeom>
          <a:solidFill>
            <a:srgbClr val="cc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832200" y="6149880"/>
            <a:ext cx="1479600" cy="703800"/>
          </a:xfrm>
          <a:prstGeom prst="rect">
            <a:avLst/>
          </a:prstGeom>
          <a:solidFill>
            <a:srgbClr val="cc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скв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0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3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4"/>
          <p:cNvSpPr txBox="1"/>
          <p:nvPr/>
        </p:nvSpPr>
        <p:spPr>
          <a:xfrm>
            <a:off x="1600200" y="1676520"/>
            <a:ext cx="5638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Impact"/>
              </a:rPr>
              <a:t>Разми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Impact"/>
              <a:ea typeface="Impact"/>
            </a:endParaRPr>
          </a:p>
        </p:txBody>
      </p:sp>
      <p:pic>
        <p:nvPicPr>
          <p:cNvPr id="265" name="Picture 11" descr="antn02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67280" y="4307040"/>
            <a:ext cx="4176720" cy="25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5 класс ПОДИ ТУДА – НЕ ЗНАЮ КУДА, 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6 класс ЧЕМ ДАЛЬШЕ В ЛЕС, 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7 класс КАК ВОЛКА НИ КОРМИ, 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8 класс ЛЮБИШЬ КАТАТЬСЯ,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9 класс НЕ РОЙ ЯМУ ДРУГОМУ,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0-11класс НЕ СПЕШИ ЯЗЫКОМ, 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01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4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060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ние 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литературного героя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3балла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ние 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адай автора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балла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ние 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и соответствие, запиши в следующей последовательности: АВТОР- ПРОИЗВЕДЕНИЕ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6балла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ние 4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ишите, что такое ….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6-7баллов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ние 5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гадайте жанр по определению.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3балла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ние 6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станови порядок букв, чтобы получилось слово, связанное с литературой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3балла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1219320" y="1752480"/>
            <a:ext cx="59436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ня</dc:creator>
  <dc:description/>
  <dc:language>en-US</dc:language>
  <cp:lastModifiedBy>User</cp:lastModifiedBy>
  <dcterms:modified xsi:type="dcterms:W3CDTF">2023-10-18T16:15:59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